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08531-20E8-4BC8-B922-CA97654F0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AC708-D0A0-4B12-AA2C-DEF52E6D1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B61E8-18A8-4C46-861E-7F00429FE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0E69D-D107-4008-89ED-AC53AC480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458D8-9819-4F1C-A200-F05FB2D53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ABB70-C9F9-453D-9C74-AF9E10F50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F60DD-4BA1-438C-9BAC-1DDF35F0A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F9856-2B58-4E78-922E-680F88E74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EBD0F-73BC-49B7-8C6D-9969451A6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78561-9A5C-487C-B93B-5F7122886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76380-55BA-4CCB-A806-BAA2B58C1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A1D1-DACC-4121-8554-1F57C0527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EE30F-D7F3-4495-BEC6-8C27F7DF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23765-581D-4682-8A5D-3932E9D26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407C0-198D-4342-ACA9-C64E9EDED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33BE2-4A78-4E60-AD42-C6BE39AD4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E0DC2-5198-46A8-8BF7-2F680DCD9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42802-490E-40EB-9F31-36549B09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1312-7099-4E71-A9DB-C7DBBC23A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838B-B251-40F2-A890-2C32AA96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7EAD-20CE-4756-AC24-F6CF1F971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8AC6-D746-4611-9325-BA99C191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56BC-15B2-4A8F-B2EB-41F9694C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FADB-0344-4A41-91B1-F5DF17A86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98A1-E0E3-4A6B-936B-2C744E6552D1}"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2910-BC82-4E4C-A406-D671F5CF11D6}"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ork, Energy and Power</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tential Energ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2</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2819160"/>
            <a:ext cx="7772400" cy="5257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pring with a spring constant of 15N/m is compressed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What force was applied to i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How much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does the spring now hav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5N/m x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75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 15N/m)(5m)</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9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tential Energy</a:t>
            </a:r>
            <a:br>
              <a:rPr sz="4400"/>
            </a:b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se work is done on a spring or elastic by stretching them, or that an object is lifted off the floor. In each case work has been done on the bodies because they have been moved by a force.That work is now STORED by the object and the object has the ability to do work at a later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5" name="PlaceHolder 2"/>
          <p:cNvSpPr>
            <a:spLocks noGrp="1"/>
          </p:cNvSpPr>
          <p:nvPr>
            <p:ph/>
          </p:nvPr>
        </p:nvSpPr>
        <p:spPr>
          <a:xfrm>
            <a:off x="762120" y="304560"/>
            <a:ext cx="7772400" cy="65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bject’s energy is dependent on its  POSITION instead of its motion. The energy due to position is called POTENTIAL ENERGY (PE)</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many types of P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Elastic PE - Work is done to expand the elasti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Spring PE - An object does work to compress the spring</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 Magnetic PE - Work must be done to separate the magnet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 Gravitational PE - Work is done to raise an object to a heigh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ravitational Potential Energy</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nergy transferred by a force to an object is equal to the work done on the object. For example, when you lift your book bag from the floor to the desk you are counteracting gravity and creating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r GP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formula is: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is Gravitational PE in J (Jou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  is mass in k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g   is accel. due to gravity in m/s</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a:t>
            </a:r>
            <a:r>
              <a:rPr b="0" lang="en-US" sz="3200" spc="-1" strike="noStrike">
                <a:solidFill>
                  <a:srgbClr val="ffffcc"/>
                </a:solidFill>
                <a:latin typeface="Symbol"/>
                <a:ea typeface="Symbol"/>
              </a:rPr>
              <a:t></a:t>
            </a:r>
            <a:r>
              <a:rPr b="0" lang="en-US" sz="3200" spc="-1" strike="noStrike">
                <a:solidFill>
                  <a:srgbClr val="ffffcc"/>
                </a:solidFill>
                <a:latin typeface="Times New Roman"/>
              </a:rPr>
              <a:t>h  is the change in height in 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1</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an lifts a box weighing 51 kg from the ground to a table ( 1.5m high ), then to a shelf (2.5m from groun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What is th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f the box with respect to the gr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with respect to the tabl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at the frame of reference is very importan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2.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5 x 10</a:t>
            </a:r>
            <a:r>
              <a:rPr b="0" lang="en-US" sz="3200" spc="-1" strike="noStrike" baseline="30000">
                <a:solidFill>
                  <a:srgbClr val="ffffcc"/>
                </a:solidFill>
                <a:latin typeface="Times New Roman"/>
              </a:rPr>
              <a:t>3</a:t>
            </a:r>
            <a:r>
              <a:rPr b="0" lang="en-US" sz="3200" spc="-1" strike="noStrike">
                <a:solidFill>
                  <a:srgbClr val="ffffcc"/>
                </a:solidFill>
                <a:latin typeface="Times New Roman"/>
              </a:rPr>
              <a:t> J (from floo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1.0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0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 (from ta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oke’s Law and Elastic and/or Spring P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s and elastics store potential energy. The harder an elastic is to stretch or a spring is to compress, the more PE it can sto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states: The deformation of an elastic object is proportional to the force applied to deform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mulas for EP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F is force in 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k is the spring constant in N/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x is the distance stretched or compressed in 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is elastic PE in J</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50:02Z</dcterms:created>
  <dc:creator>Chantal Burns</dc:creator>
  <dc:description/>
  <dc:language>en-US</dc:language>
  <cp:lastModifiedBy>nbdoe</cp:lastModifiedBy>
  <dcterms:modified xsi:type="dcterms:W3CDTF">2009-04-17T16:37:01Z</dcterms:modified>
  <cp:revision>5</cp:revision>
  <dc:subject/>
  <dc:title>Work, Energy and Power</dc:title>
</cp:coreProperties>
</file>